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4.gif" ContentType="image/gif"/>
  <Override PartName="/ppt/media/image1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3.jpeg" ContentType="image/jpeg"/>
  <Override PartName="/ppt/media/image10.png" ContentType="image/png"/>
  <Override PartName="/ppt/media/image6.jpeg" ContentType="image/jpeg"/>
  <Override PartName="/ppt/media/image5.gif" ContentType="image/gif"/>
  <Override PartName="/ppt/media/image16.wmf" ContentType="image/x-wmf"/>
  <Override PartName="/ppt/media/image14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CB40-5A79-4DFB-B00B-E62AF265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0090-B3BA-42CA-BD63-C80194F0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5AF2-4CFE-4C42-973F-71085D904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262E-1238-48EE-8995-27969D27D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63EF-A7DC-4634-BCEE-A25D1BC3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CC5B-DDBA-43C9-AB94-B84A2905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B4F8-BC8A-4C3B-9A99-4BAE6B21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D4E7-AB57-4271-A28C-0CFCAED5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1046-117C-4B67-B853-69E4BC67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4A1D-2FBB-41F5-BF58-BD310C64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AEC9-EA79-45EA-94B9-BBFDCFD8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3897-C888-4131-ABFB-66685E33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F957-1FDF-4668-9E9D-6FC3C22F812A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myvibor.ru/poleznoe_info/psihika/psihika18.html" TargetMode="External"/><Relationship Id="rId2" Type="http://schemas.openxmlformats.org/officeDocument/2006/relationships/hyperlink" Target="http://flogiston.ru/articles/netpsy/gameaddict2" TargetMode="External"/><Relationship Id="rId3" Type="http://schemas.openxmlformats.org/officeDocument/2006/relationships/hyperlink" Target="http://www.tiensmed.ru/programmer4.html" TargetMode="External"/><Relationship Id="rId4" Type="http://schemas.openxmlformats.org/officeDocument/2006/relationships/hyperlink" Target="http://www.kluchnikov.ru/statji/kompjyuternaya-zavisimostj.html" TargetMode="Externa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999720"/>
            <a:ext cx="7572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nstantia"/>
              </a:rPr>
              <a:t>«Компьютерная зависимость детей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0320062210111"/>
          <p:cNvPicPr/>
          <p:nvPr/>
        </p:nvPicPr>
        <p:blipFill>
          <a:blip r:embed="rId2"/>
          <a:stretch/>
        </p:blipFill>
        <p:spPr>
          <a:xfrm>
            <a:off x="571680" y="2571840"/>
            <a:ext cx="3886200" cy="3381120"/>
          </a:xfrm>
          <a:prstGeom prst="rect">
            <a:avLst/>
          </a:prstGeom>
          <a:ln w="57240">
            <a:solidFill>
              <a:srgbClr val="00b0f0"/>
            </a:solidFill>
            <a:miter/>
          </a:ln>
        </p:spPr>
      </p:pic>
      <p:pic>
        <p:nvPicPr>
          <p:cNvPr id="43" name="Picture 4" descr="komp_"/>
          <p:cNvPicPr/>
          <p:nvPr/>
        </p:nvPicPr>
        <p:blipFill>
          <a:blip r:embed="rId3"/>
          <a:stretch/>
        </p:blipFill>
        <p:spPr>
          <a:xfrm>
            <a:off x="5072040" y="2052720"/>
            <a:ext cx="3365640" cy="44514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3 Marcador de contenido" descr="4.jpg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alibri"/>
              </a:rPr>
              <a:t>Мы живем в современном </a:t>
            </a:r>
            <a:r>
              <a:rPr b="1" lang="en-US" sz="2800" spc="-1" strike="noStrike">
                <a:solidFill>
                  <a:srgbClr val="ffc000"/>
                </a:solidFill>
                <a:latin typeface="Calibri"/>
              </a:rPr>
              <a:t>XXI</a:t>
            </a:r>
            <a:r>
              <a:rPr b="1" lang="ru-RU" sz="2800" spc="-1" strike="noStrike">
                <a:solidFill>
                  <a:srgbClr val="ffc000"/>
                </a:solidFill>
                <a:latin typeface="Calibri"/>
              </a:rPr>
              <a:t> веке, в котором постоянно осуществляются модернизирование и технический прогресс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Calibri"/>
              </a:rPr>
              <a:t>Одним из таких прорывов в технологиях является всеобщая доступность сети Интернет. </a:t>
            </a:r>
            <a:r>
              <a:rPr b="1" lang="en-US" sz="28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92d050"/>
                </a:solidFill>
                <a:latin typeface="Calibri"/>
              </a:rPr>
              <a:t>С внедрением новых технологий возникают не только положительные аспекты, но и отрицательные. Одним из таких примеров являет собой интернет-зависимость. В большинстве же своем она проявляется у детей и подростков, т.к. у них еще не сформирована психика, и они не могут контролировать свое пристрастие.</a:t>
            </a:r>
            <a:r>
              <a:rPr b="0" lang="ru-RU" sz="2800" spc="-1" strike="noStrike">
                <a:solidFill>
                  <a:srgbClr val="92d05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90560" y="189000"/>
            <a:ext cx="4753080" cy="648000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Calibri"/>
              </a:rPr>
              <a:t>Тревогу по поводу зависимости от интернета зарубежные психологи начали бить еще в середине 90-х. Главным ее признаком назвали "навязчивое желание войти в интернет и неспособность из него выйти". Интернет назвали средством ухода от реальности; поиск информации в Сети - 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информационным вампиризмом</a:t>
            </a:r>
            <a:r>
              <a:rPr b="0" lang="ru-RU" sz="2800" spc="-1" strike="noStrike">
                <a:solidFill>
                  <a:srgbClr val="92d050"/>
                </a:solidFill>
                <a:latin typeface="Calibri"/>
              </a:rPr>
              <a:t>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big_640750"/>
          <p:cNvPicPr/>
          <p:nvPr/>
        </p:nvPicPr>
        <p:blipFill>
          <a:blip r:embed="rId1"/>
          <a:stretch/>
        </p:blipFill>
        <p:spPr>
          <a:xfrm>
            <a:off x="0" y="3471840"/>
            <a:ext cx="4500720" cy="33861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дь что может быть лучше прогулки в лесу или в парке? Создайте детям альтернативу сидению за компьютером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3640" y="1125000"/>
            <a:ext cx="5111640" cy="59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c0c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Можно выделить </a:t>
            </a:r>
            <a:r>
              <a:rPr b="1" i="1" lang="ru-RU" sz="2000" spc="-1" strike="noStrike" u="sng">
                <a:solidFill>
                  <a:srgbClr val="92d050"/>
                </a:solidFill>
                <a:uFillTx/>
                <a:latin typeface="Calibri"/>
              </a:rPr>
              <a:t>несколько типов интернет зависимости. </a:t>
            </a: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Все они делятся по признаку того, что человек с интернет-зависимостью делает в интернет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2d050"/>
                </a:solidFill>
                <a:uFillTx/>
                <a:latin typeface="Calibri"/>
              </a:rPr>
              <a:t>Общение.</a:t>
            </a:r>
            <a:r>
              <a:rPr b="0" lang="ru-RU" sz="2000" spc="-1" strike="noStrike">
                <a:solidFill>
                  <a:srgbClr val="c0c0c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66ccff"/>
                </a:solidFill>
                <a:latin typeface="Calibri"/>
              </a:rPr>
              <a:t>Человек постоянно общается разными способами в интернет. Способы общения могут отличаться, например социальные сети, форумы, чаты, интернет-мессенджеры, электронная почта, блог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2d050"/>
                </a:solidFill>
                <a:uFillTx/>
                <a:latin typeface="Calibri"/>
              </a:rPr>
              <a:t>Развлечения. </a:t>
            </a:r>
            <a:r>
              <a:rPr b="0" lang="ru-RU" sz="2000" spc="-1" strike="noStrike">
                <a:solidFill>
                  <a:srgbClr val="66ccff"/>
                </a:solidFill>
                <a:latin typeface="Calibri"/>
              </a:rPr>
              <a:t>Сюда можно отнести просмотр какого-либо контента в сети. Это могут быть различные картинки, фильмы, электронные книги, он-лайн игры, сетевые иг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ccff"/>
                </a:solidFill>
                <a:latin typeface="Calibri"/>
              </a:rPr>
              <a:t>Отдельная категория людей пытается заниматься </a:t>
            </a:r>
            <a:r>
              <a:rPr b="1" lang="ru-RU" sz="2000" spc="-1" strike="noStrike" u="sng">
                <a:solidFill>
                  <a:srgbClr val="92d050"/>
                </a:solidFill>
                <a:uFillTx/>
                <a:latin typeface="Calibri"/>
              </a:rPr>
              <a:t>манимейкерством</a:t>
            </a:r>
            <a:r>
              <a:rPr b="0" lang="ru-RU" sz="2000" spc="-1" strike="noStrike">
                <a:solidFill>
                  <a:srgbClr val="c0c0c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66ccff"/>
                </a:solidFill>
                <a:latin typeface="Calibri"/>
              </a:rPr>
              <a:t>а точнее, зарабатывать деньги в интернет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5106-d24ee833"/>
          <p:cNvPicPr/>
          <p:nvPr/>
        </p:nvPicPr>
        <p:blipFill>
          <a:blip r:embed="rId1"/>
          <a:stretch/>
        </p:blipFill>
        <p:spPr>
          <a:xfrm>
            <a:off x="5651640" y="1198440"/>
            <a:ext cx="3276360" cy="4822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00720" y="642960"/>
            <a:ext cx="431928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Calibri"/>
              </a:rPr>
              <a:t>Некоторые известные психологи считают, что инфомания (а, следовательно и интернет-зависимость), могут вызвать состояния, похожие по своей симптоматике с 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Calibri"/>
              </a:rPr>
              <a:t>наркотической ломкой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. </a:t>
            </a:r>
            <a:r>
              <a:rPr b="0" lang="ru-RU" sz="2400" spc="-1" strike="noStrike">
                <a:solidFill>
                  <a:srgbClr val="92d050"/>
                </a:solidFill>
                <a:latin typeface="Calibri"/>
              </a:rPr>
              <a:t>Правда, человек не испытывает боли, он просто находится в постоянной депрессии и не может сосредоточиться на выполнении текущих зада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img_2cef168f8bf2402744a309d3ece84b3d"/>
          <p:cNvPicPr/>
          <p:nvPr/>
        </p:nvPicPr>
        <p:blipFill>
          <a:blip r:embed="rId1"/>
          <a:stretch/>
        </p:blipFill>
        <p:spPr>
          <a:xfrm>
            <a:off x="214200" y="214200"/>
            <a:ext cx="4151520" cy="6429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2920" y="1356840"/>
            <a:ext cx="878688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Чем же так привлекает Интернет?</a:t>
            </a:r>
            <a:br>
              <a:rPr sz="3600"/>
            </a:br>
            <a:br>
              <a:rPr sz="1400"/>
            </a:br>
            <a:r>
              <a:rPr b="0" lang="en-US" sz="1600" spc="-1" strike="noStrike">
                <a:solidFill>
                  <a:srgbClr val="c0c0c0"/>
                </a:solidFill>
                <a:latin typeface="Calibri"/>
              </a:rPr>
              <a:t>  </a:t>
            </a:r>
            <a:r>
              <a:rPr b="1" lang="ru-RU" sz="1600" spc="-1" strike="noStrike" u="sng">
                <a:solidFill>
                  <a:srgbClr val="ffc000"/>
                </a:solidFill>
                <a:uFillTx/>
                <a:latin typeface="Comic Sans MS"/>
              </a:rPr>
              <a:t>1) Анонимность</a:t>
            </a:r>
            <a:r>
              <a:rPr b="0" lang="ru-RU" sz="1600" spc="-1" strike="noStrike">
                <a:solidFill>
                  <a:srgbClr val="c0c0c0"/>
                </a:solidFill>
                <a:latin typeface="Calibri"/>
              </a:rPr>
              <a:t>. </a:t>
            </a:r>
            <a:r>
              <a:rPr b="0" lang="ru-RU" sz="1600" spc="-1" strike="noStrike">
                <a:solidFill>
                  <a:srgbClr val="4bc3ff"/>
                </a:solidFill>
                <a:latin typeface="Calibri"/>
              </a:rPr>
              <a:t>Человек в сети может проявлять и проявляет большую свободу высказываний и поступков (вплоть до оскорблений, нецензурных выражений, сексуальных домогательств), так как риск разоблачения и личной отрицательной оценки окружающими минимален.</a:t>
            </a:r>
            <a:br>
              <a:rPr sz="1600"/>
            </a:br>
            <a:r>
              <a:rPr b="0" lang="en-US" sz="1600" spc="-1" strike="noStrike">
                <a:solidFill>
                  <a:srgbClr val="c0c0c0"/>
                </a:solidFill>
                <a:latin typeface="Calibri"/>
              </a:rPr>
              <a:t>   </a:t>
            </a:r>
            <a:r>
              <a:rPr b="1" lang="ru-RU" sz="1600" spc="-1" strike="noStrike" u="sng">
                <a:solidFill>
                  <a:srgbClr val="ffc000"/>
                </a:solidFill>
                <a:uFillTx/>
                <a:latin typeface="Comic Sans MS"/>
              </a:rPr>
              <a:t>2) Создание образа. </a:t>
            </a:r>
            <a:r>
              <a:rPr b="0" lang="ru-RU" sz="1600" spc="-1" strike="noStrike">
                <a:solidFill>
                  <a:srgbClr val="66ffff"/>
                </a:solidFill>
                <a:latin typeface="Calibri"/>
              </a:rPr>
              <a:t>Своеобразие протекания процессов межличностного восприятия в условиях отсутствия невербальной информации. Как правило, сильное влияние на представление о собеседнике имеют механизмы стереотипизации и идентификации, а также установка как ожидание желаемых качеств в партнере.</a:t>
            </a:r>
            <a:br>
              <a:rPr sz="1600"/>
            </a:br>
            <a:r>
              <a:rPr b="1" lang="ru-RU" sz="1600" spc="-1" strike="noStrike" u="sng">
                <a:solidFill>
                  <a:srgbClr val="ffc000"/>
                </a:solidFill>
                <a:uFillTx/>
                <a:latin typeface="Comic Sans MS"/>
              </a:rPr>
              <a:t>3) Добровольность и желательность контактов. </a:t>
            </a:r>
            <a:r>
              <a:rPr b="0" lang="ru-RU" sz="1600" spc="-1" strike="noStrike">
                <a:solidFill>
                  <a:srgbClr val="c0c0c0"/>
                </a:solidFill>
                <a:latin typeface="Calibri"/>
              </a:rPr>
              <a:t>Пользователь добровольно завязывает контакты или уходит от них, а также может прервать их в любой момент.</a:t>
            </a:r>
            <a:br>
              <a:rPr sz="1600"/>
            </a:br>
            <a:r>
              <a:rPr b="1" lang="ru-RU" sz="1600" spc="-1" strike="noStrike" u="sng">
                <a:solidFill>
                  <a:srgbClr val="ffc000"/>
                </a:solidFill>
                <a:uFillTx/>
                <a:latin typeface="Comic Sans MS"/>
              </a:rPr>
              <a:t>4) Отсутствие эмоций. </a:t>
            </a:r>
            <a:r>
              <a:rPr b="0" lang="ru-RU" sz="1600" spc="-1" strike="noStrike">
                <a:solidFill>
                  <a:srgbClr val="05acff"/>
                </a:solidFill>
                <a:latin typeface="Calibri"/>
              </a:rPr>
              <a:t>Затрудненность эмоционального компонента общения и, в то же время, стойкое стремление к эмоциональному наполнению текста, которое выражается в создании специальных значков для обозначения эмоций или в описании эмоций словами (в скобках после основного текста послания).</a:t>
            </a:r>
            <a:br>
              <a:rPr sz="1600"/>
            </a:br>
            <a:r>
              <a:rPr b="1" lang="ru-RU" sz="1600" spc="-1" strike="noStrike" u="sng">
                <a:solidFill>
                  <a:srgbClr val="ffc000"/>
                </a:solidFill>
                <a:uFillTx/>
                <a:latin typeface="Comic Sans MS"/>
              </a:rPr>
              <a:t>5) Стремление к нетипичному, ненормативному поведению</a:t>
            </a:r>
            <a:r>
              <a:rPr b="0" lang="ru-RU" sz="1600" spc="-1" strike="noStrike">
                <a:solidFill>
                  <a:srgbClr val="c0c0c0"/>
                </a:solidFill>
                <a:latin typeface="Calibri"/>
              </a:rPr>
              <a:t>. </a:t>
            </a:r>
            <a:r>
              <a:rPr b="0" lang="ru-RU" sz="1600" spc="-1" strike="noStrike">
                <a:solidFill>
                  <a:srgbClr val="66ffff"/>
                </a:solidFill>
                <a:latin typeface="Calibri"/>
              </a:rPr>
              <a:t>Зачастую пользователи презентируют себя с иной стороны, чем в условиях реальной социальной нормы, проигрывают не реализуемые в деятельности вне сети роли, сценарии, ненормативного поведения.</a:t>
            </a:r>
            <a:br>
              <a:rPr sz="1400"/>
            </a:br>
            <a:br>
              <a:rPr sz="14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571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2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Comic Sans MS"/>
              </a:rPr>
              <a:t>Одиночество больших городов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имптомы интернет-зависимости у детей вырастают нередко из родительского отношения. Более чем для 62% московских родителей ребенок – это маленький бог, над которым дрожат от страха – «а вдруг с ним что-то случится?», и малейшие прихоти которого стремятся выполнить – «не то он нам всем испортит жизнь!». Более 65% родителей разрешают своим детям свободно пользоваться Интернетом. Испуг, протест (как часто подростки всей душой любят те занятия, которые ненавидят их родители!) и чувство глубокого внутреннего одиночества приводят в виртуальный мир чудес, где любой может представить себя богом-инкогнито, где забываются семейные, учебные и рабочие проблемы, гасятся страхи, связанные с глубокими  личными переживаниями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Москве люди больше погружены в Сеть, чем жители маленьких городов. Одиночество в большом городе вырастает из психологического отчуждения. Понаблюдаем за пассажирами метро: для отчуждения от взглядов у них есть книга либо мобильный, для отчуждения от звуков – плеер с наушниками. Мы отгораживаемся от мира всеми доступными способами. Интернет – апофеоз отчуждения, он помогает отгородиться от близких, позволяет не решать возникающие проблемы…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менно компенсаторная функция Интернета завораживает: ведь в этом мире чудес можно получить то, чего никогда не получишь в жизни, и стать тем, кем никогда не станешь в реальности.</a:t>
            </a:r>
            <a:br>
              <a:rPr sz="1800"/>
            </a:b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7" name="Object 3"/>
          <p:cNvGraphicFramePr/>
          <p:nvPr/>
        </p:nvGraphicFramePr>
        <p:xfrm>
          <a:off x="0" y="0"/>
          <a:ext cx="9325080" cy="6994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25080" cy="69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Rectangle 6"/>
          <p:cNvSpPr/>
          <p:nvPr/>
        </p:nvSpPr>
        <p:spPr>
          <a:xfrm flipV="1" rot="10828800">
            <a:off x="1493640" y="623520"/>
            <a:ext cx="5862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Без Интернета сейчас нельзя представить себе полноценное существование современного общества, поэтому нужно искать альтернативу решению сложившейся проблеме интернет-зависимости у де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357800" y="4357800"/>
            <a:ext cx="4572000" cy="20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одители не должны оставлять без внимания своих детей, тогда Интернет-зависимости можно избежать. Постоянно общайтесь со своими детьми. Никогда не поздно рассказать ребенку, как правильно поступать и реагировать на действия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ругих людей в Интернет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000680" y="285480"/>
            <a:ext cx="5000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тей привлекают в Интернете разнообразные сайты, социальные сети, где они могут узнавать что-то новое, но не всегда это «новое» может быть приемлемо для ребенка.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Ресурсы Интернета ничем не ограничен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пользователей, а поэтому ребенок может узнать то, чего ему еще знать совсем не нужно. Дети посещают порно-сайты сначала из любопытства, а потом это входит в привычку, эти привычки, складывающиеся у ребенка в результате его взаимодействия с компьютером наедине, кардинально портят психику. Будьте друзьями для своих собственных детей, создавайте такую атмосферу, в которой им хотелось бы больше проводить времени с вами, гулять, нежели  сидеть в душной комнате, за компьютер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285840" y="1785960"/>
            <a:ext cx="3633840" cy="3863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c000"/>
                </a:solidFill>
                <a:latin typeface="Calibri"/>
              </a:rPr>
              <a:t>Но нельзя сказать, что Интернет – это зло, нет. Интернет, несомненно важное изобретение человечества, которое помогло обществу шагнуть далеко вперед.</a:t>
            </a:r>
            <a:br>
              <a:rPr sz="2900"/>
            </a:br>
            <a:r>
              <a:rPr b="1" lang="ru-RU" sz="2900" spc="-1" strike="noStrike">
                <a:solidFill>
                  <a:srgbClr val="ffc000"/>
                </a:solidFill>
                <a:latin typeface="Calibri"/>
              </a:rPr>
              <a:t>Весь мир крутится вокруг Интернет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Картинка 427 из 96000"/>
          <p:cNvPicPr/>
          <p:nvPr/>
        </p:nvPicPr>
        <p:blipFill>
          <a:blip r:embed="rId1"/>
          <a:stretch/>
        </p:blipFill>
        <p:spPr>
          <a:xfrm>
            <a:off x="1143000" y="2786040"/>
            <a:ext cx="6786720" cy="3827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188640"/>
            <a:ext cx="4500720" cy="63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c000"/>
                </a:solidFill>
                <a:uFillTx/>
                <a:latin typeface="Calibri"/>
              </a:rPr>
              <a:t>Положительные черты Интерн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00"/>
                </a:solidFill>
                <a:latin typeface="Calibri"/>
              </a:rPr>
              <a:t>экономия времени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75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92d050"/>
                </a:solidFill>
                <a:latin typeface="Calibri"/>
              </a:rPr>
              <a:t>способ показать, проявить себя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00"/>
                </a:solidFill>
                <a:latin typeface="Calibri"/>
              </a:rPr>
              <a:t>Найти старых друзей, которых давно потерял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75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92d050"/>
                </a:solidFill>
                <a:latin typeface="Calibri"/>
              </a:rPr>
              <a:t>возможность звонить по телефону</a:t>
            </a:r>
            <a:r>
              <a:rPr b="0" lang="ru-RU" sz="2300" spc="-1" strike="noStrike">
                <a:solidFill>
                  <a:srgbClr val="ffff00"/>
                </a:solidFill>
                <a:latin typeface="Calibri"/>
              </a:rPr>
              <a:t>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00"/>
                </a:solidFill>
                <a:latin typeface="Calibri"/>
              </a:rPr>
              <a:t>делать покупки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75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92d050"/>
                </a:solidFill>
                <a:latin typeface="Calibri"/>
              </a:rPr>
              <a:t>наличие огромных библиотек всевозможной литературы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00"/>
                </a:solidFill>
                <a:latin typeface="Calibri"/>
              </a:rPr>
              <a:t>возможность многому научиться, получить профессию, либо поднять свои навыки на иной </a:t>
            </a:r>
            <a:r>
              <a:rPr b="0" lang="ru-RU" sz="2200" spc="-1" strike="noStrike">
                <a:solidFill>
                  <a:srgbClr val="ffff00"/>
                </a:solidFill>
                <a:latin typeface="Calibri"/>
              </a:rPr>
              <a:t>уровень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2d050"/>
                </a:solidFill>
                <a:latin typeface="Calibri"/>
              </a:rPr>
              <a:t>получить самые свежие новости узкой либо широкой тематик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Calibri"/>
              </a:rPr>
              <a:t>чаты и ICQ дают возможность общаться в реальном времен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Картинка 525 из 96000"/>
          <p:cNvPicPr/>
          <p:nvPr/>
        </p:nvPicPr>
        <p:blipFill>
          <a:blip r:embed="rId1"/>
          <a:stretch/>
        </p:blipFill>
        <p:spPr>
          <a:xfrm>
            <a:off x="4481640" y="285840"/>
            <a:ext cx="4419360" cy="4357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Картинка 706 из 96000"/>
          <p:cNvPicPr/>
          <p:nvPr/>
        </p:nvPicPr>
        <p:blipFill>
          <a:blip r:embed="rId2"/>
          <a:stretch/>
        </p:blipFill>
        <p:spPr>
          <a:xfrm>
            <a:off x="6929280" y="4143240"/>
            <a:ext cx="1908360" cy="2492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14200" y="428400"/>
            <a:ext cx="8607600" cy="4071960"/>
          </a:xfrm>
          <a:prstGeom prst="rect">
            <a:avLst/>
          </a:prstGeom>
          <a:gradFill rotWithShape="0">
            <a:gsLst>
              <a:gs pos="0">
                <a:srgbClr val="4f81bd">
                  <a:alpha val="53333"/>
                </a:srgbClr>
              </a:gs>
              <a:gs pos="100000">
                <a:srgbClr val="ffffff">
                  <a:alpha val="29019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95b74f"/>
                </a:solidFill>
                <a:latin typeface="GOST type B"/>
              </a:rPr>
              <a:t>Термин</a:t>
            </a:r>
            <a:r>
              <a:rPr b="1" i="1" lang="ru-RU" sz="3000" spc="-1" strike="noStrike">
                <a:solidFill>
                  <a:srgbClr val="0000ff"/>
                </a:solidFill>
                <a:latin typeface="GOST type B"/>
              </a:rPr>
              <a:t> </a:t>
            </a:r>
            <a:r>
              <a:rPr b="1" lang="ru-RU" sz="3000" spc="-1" strike="noStrike">
                <a:solidFill>
                  <a:srgbClr val="ff3300"/>
                </a:solidFill>
                <a:latin typeface="Arial Rounded MT Bold"/>
              </a:rPr>
              <a:t>«компьютерная зависимость»</a:t>
            </a:r>
            <a:r>
              <a:rPr b="1" i="1" lang="ru-RU" sz="3000" spc="-1" strike="noStrike">
                <a:solidFill>
                  <a:srgbClr val="0000ff"/>
                </a:solidFill>
                <a:latin typeface="GOST type B"/>
              </a:rPr>
              <a:t> </a:t>
            </a:r>
            <a:r>
              <a:rPr b="1" i="1" lang="ru-RU" sz="3000" spc="-1" strike="noStrike">
                <a:solidFill>
                  <a:srgbClr val="95b74f"/>
                </a:solidFill>
                <a:latin typeface="GOST type B"/>
              </a:rPr>
              <a:t>определяет патологическое пристрастие человека к работе или проведению времени за компьютером. Это навязчивое желание включить компьютер и неспособность его выключить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95b74f"/>
                </a:solidFill>
                <a:latin typeface="GOST type B"/>
              </a:rPr>
              <a:t>Человек способен провести в виртуальной реальност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ff0000"/>
                </a:solidFill>
                <a:uFillTx/>
                <a:latin typeface="GOST type B"/>
              </a:rPr>
              <a:t>от 5 до 20 часов в сутки</a:t>
            </a:r>
            <a:r>
              <a:rPr b="1" i="1" lang="ru-RU" sz="3000" spc="-1" strike="noStrike">
                <a:solidFill>
                  <a:srgbClr val="0000ff"/>
                </a:solidFill>
                <a:latin typeface="GOST type B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j0254490"/>
          <p:cNvPicPr/>
          <p:nvPr/>
        </p:nvPicPr>
        <p:blipFill>
          <a:blip r:embed="rId1"/>
          <a:stretch/>
        </p:blipFill>
        <p:spPr>
          <a:xfrm>
            <a:off x="5994360" y="4143240"/>
            <a:ext cx="2898720" cy="24512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8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728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912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992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23640" y="1557000"/>
            <a:ext cx="8569080" cy="4824360"/>
          </a:xfrm>
          <a:prstGeom prst="rect">
            <a:avLst/>
          </a:prstGeom>
          <a:gradFill rotWithShape="0">
            <a:gsLst>
              <a:gs pos="0">
                <a:srgbClr val="ffffff">
                  <a:alpha val="69019"/>
                </a:srgbClr>
              </a:gs>
              <a:gs pos="100000">
                <a:srgbClr val="ffffff">
                  <a:alpha val="18039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 Rounded MT Bold"/>
              </a:rPr>
              <a:t>Влияние компьютерных технологий на психику челове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55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yvibor.ru/poleznoe_info/psihika/psihika18.htm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 Rounded MT Bold"/>
              </a:rPr>
              <a:t>Психологические аспекты негативного влияния игровой компьютерной зависимости на личность челов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55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flogiston.ru/articles/netpsy/gameaddict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 Rounded MT Bold"/>
              </a:rPr>
              <a:t>Симптомы компьютерной зависимости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55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tiensmed.ru/programmer4.htm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 Rounded MT Bold"/>
              </a:rPr>
              <a:t>Психологическая программа избавления от компьютерной зависим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55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kluchnikov.ru/statji/kompjyuternaya-zavisimostj.htm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79280" y="189000"/>
            <a:ext cx="97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Подробнее о причинах и  симптомах компьютерной зависимости можно прочитать на страницах сай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serv_parents_sm2"/>
          <p:cNvPicPr/>
          <p:nvPr/>
        </p:nvPicPr>
        <p:blipFill>
          <a:blip r:embed="rId1"/>
          <a:stretch/>
        </p:blipFill>
        <p:spPr>
          <a:xfrm>
            <a:off x="1643040" y="142920"/>
            <a:ext cx="5811840" cy="4707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928800" y="5072040"/>
            <a:ext cx="70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 Black"/>
              </a:rPr>
              <a:t>Пусть работа на компьютере и интернет будет Вам и Вашим детям во бла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gradFill rotWithShape="0">
            <a:gsLst>
              <a:gs pos="0">
                <a:srgbClr val="4f81bd">
                  <a:alpha val="38039"/>
                </a:srgbClr>
              </a:gs>
              <a:gs pos="50000">
                <a:srgbClr val="0000ff">
                  <a:alpha val="72156"/>
                </a:srgbClr>
              </a:gs>
              <a:gs pos="100000">
                <a:srgbClr val="4f81bd">
                  <a:alpha val="38039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 Black"/>
              </a:rPr>
              <a:t>Основные симптомы компьютерной зависимости – это:</a:t>
            </a:r>
            <a:r>
              <a:rPr b="1" lang="ru-RU" sz="18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eece1"/>
                </a:solidFill>
                <a:latin typeface="Arial Rounded MT Bold"/>
              </a:rPr>
              <a:t>Непреодолимая тяга к игре, программированию, работе, связанной с компьютером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6b9b8"/>
                </a:solidFill>
                <a:latin typeface="Arial Rounded MT Bold"/>
              </a:rPr>
              <a:t>Пристрастие к поиску информации в сети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eece1"/>
                </a:solidFill>
                <a:latin typeface="Arial Rounded MT Bold"/>
              </a:rPr>
              <a:t>Чрезмерное увлечение так называемым интернет-серфингом, то есть переходам по ссылкам с сайта на сайт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6b9b8"/>
                </a:solidFill>
                <a:latin typeface="Arial Rounded MT Bold"/>
              </a:rPr>
              <a:t>Навязчивое желание играть в сетевые игры, делать покупки исключительно в интернет-магазинах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eece1"/>
                </a:solidFill>
                <a:latin typeface="Arial Rounded MT Bold"/>
              </a:rPr>
              <a:t>Стремление к частой проверке своего почтового ящик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6b9b8"/>
                </a:solidFill>
                <a:latin typeface="Arial Rounded MT Bold"/>
              </a:rPr>
              <a:t>Постоянное ожидание того момента, когда можно будет сесть за компьютер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eece1"/>
                </a:solidFill>
                <a:latin typeface="Arial Rounded MT Bold"/>
              </a:rPr>
              <a:t>Подавленное настроение, раздражительность и депрессия в том случае, если то не удается сделать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ff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6b9b8"/>
                </a:solidFill>
                <a:latin typeface="Arial Rounded MT Bold"/>
              </a:rPr>
              <a:t>Патологическое увлечение чатами, форумами и социальными сетям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eece1"/>
                </a:solidFill>
                <a:latin typeface="Arial Rounded MT Bold"/>
              </a:rPr>
              <a:t>В самых запущенных случаях зависимый человек перестает обращать внимание на свой внешний вид, гигиенические потребности и необходимость принятия пищи.</a:t>
            </a:r>
            <a:r>
              <a:rPr b="1" lang="ru-RU" sz="2400" spc="-1" strike="noStrike">
                <a:solidFill>
                  <a:srgbClr val="eeece1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mb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2640" y="285480"/>
            <a:ext cx="70722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 Black"/>
              </a:rPr>
              <a:t>Как распознать зависимост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26920" y="201780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a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6a644"/>
                </a:solidFill>
                <a:latin typeface="Arial"/>
              </a:rPr>
              <a:t>Увлечение компьютерными играми действительно мешает вашему ребенку общаться и учитьс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Оторванный от игры, ребенок тревожится, не находит себе места, не знает чем занятьс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a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6a644"/>
                </a:solidFill>
                <a:latin typeface="Arial"/>
              </a:rPr>
              <a:t>Увлечение продолжается долго, намного дольше, чем время прохождения одной-двух полюбившихся игр.</a:t>
            </a:r>
            <a:r>
              <a:rPr b="0" lang="ru-RU" sz="2800" spc="-1" strike="noStrike">
                <a:solidFill>
                  <a:srgbClr val="86a644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j0283646"/>
          <p:cNvPicPr/>
          <p:nvPr/>
        </p:nvPicPr>
        <p:blipFill>
          <a:blip r:embed="rId1"/>
          <a:stretch/>
        </p:blipFill>
        <p:spPr>
          <a:xfrm>
            <a:off x="6000840" y="4815000"/>
            <a:ext cx="2771640" cy="2043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43040" y="0"/>
            <a:ext cx="568800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Calibri"/>
              </a:rPr>
              <a:t>В чём причины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5480" y="1214280"/>
            <a:ext cx="5500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2d050"/>
                </a:solidFill>
                <a:latin typeface="Arial"/>
              </a:rPr>
              <a:t>Потрясающее сходство компьютерной игры и фантазии – это первая и главная причина, благодаря которой происходит слияние сознания ребенка и компьютерной игр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6b9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6b9b8"/>
                </a:solidFill>
                <a:latin typeface="Arial"/>
              </a:rPr>
              <a:t>Любой ребенок стремится управлять своей жизнью, и это желание удовлетворяется в компьютерных игра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2d050"/>
                </a:solidFill>
                <a:latin typeface="Arial"/>
              </a:rPr>
              <a:t>Игра — упрощенная имитация реальности, в которой разнообразие факторов и случайность сведены к минимальной необходимости, поэтому научиться управлять игрой проще, чем жизнью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6b9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6b9b8"/>
                </a:solidFill>
                <a:latin typeface="Arial"/>
              </a:rPr>
              <a:t>Если ребенок не имеет своей «территории» или она слишком мала для него, то ему намного проще остаться на предыдущей стадии – фантаз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2d050"/>
                </a:solidFill>
                <a:latin typeface="Arial"/>
              </a:rPr>
              <a:t>Чрезмерного увлечения компьютерными играми – это отсутствие опыта управления своей собственной жизнью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images"/>
          <p:cNvPicPr/>
          <p:nvPr/>
        </p:nvPicPr>
        <p:blipFill>
          <a:blip r:embed="rId1"/>
          <a:stretch/>
        </p:blipFill>
        <p:spPr>
          <a:xfrm>
            <a:off x="5643720" y="1714680"/>
            <a:ext cx="3109680" cy="3109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0" y="0"/>
            <a:ext cx="8929800" cy="7883280"/>
          </a:xfrm>
          <a:prstGeom prst="rect">
            <a:avLst/>
          </a:prstGeom>
          <a:gradFill rotWithShape="0">
            <a:gsLst>
              <a:gs pos="0">
                <a:srgbClr val="0000ff">
                  <a:alpha val="28235"/>
                </a:srgbClr>
              </a:gs>
              <a:gs pos="50000">
                <a:srgbClr val="4f81bd">
                  <a:alpha val="53333"/>
                </a:srgbClr>
              </a:gs>
              <a:gs pos="100000">
                <a:srgbClr val="0000ff">
                  <a:alpha val="2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 Black"/>
              </a:rPr>
              <a:t>Задумайтесь над поведением ваших детей, ес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136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6a644"/>
                </a:solidFill>
                <a:latin typeface="Arial Rounded MT Bold"/>
              </a:rPr>
              <a:t>Они наизусть помнят номер своей аськи, внешнего и внутреннего IP адреса, а вот за домашним номером или сотовым номером мамы приходиться гоняться по записной книж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136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2d050"/>
                </a:solidFill>
                <a:latin typeface="Arial Rounded MT Bold"/>
              </a:rPr>
              <a:t>Отказываются от предложений погулять - все ради того, чтобы пообщаться в irc или посидеть на форум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136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6a644"/>
                </a:solidFill>
                <a:latin typeface="Arial Rounded MT Bold"/>
              </a:rPr>
              <a:t>Проснувшись, они сначала включают компьютер и только потом идут на кухню ставить чайни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136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2d050"/>
                </a:solidFill>
                <a:latin typeface="Arial Rounded MT Bold"/>
              </a:rPr>
              <a:t>Им легче называть друзей по их никам в Сети, а не по именам, да и фамилии они их толком не знаю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136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6a644"/>
                </a:solidFill>
                <a:latin typeface="Arial Rounded MT Bold"/>
              </a:rPr>
              <a:t>Записывая речь учителя, они ставят смайлики, и автоматически делают пометки на тетради и в мозгу "оффтоп"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136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1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1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1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43040" y="213840"/>
            <a:ext cx="568800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Calibri"/>
              </a:rPr>
              <a:t>Что делать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120" y="999720"/>
            <a:ext cx="84628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Следует помнить, что ребенок, для которого главным девизом жизни является «нельзя!», который не знает, что такое «вместе», который не получает ярких впечатлений и не имеет ничего по-настоящему своего, который уже потерял надежду всё это познать и обрести – скорее всего уйдёт в свой придуманный мир, а при наличие компьютерной игры – уйдёт в неё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933c"/>
                </a:solidFill>
                <a:latin typeface="Arial"/>
              </a:rPr>
              <a:t>Дайте ребенку возможность быть самостоятельны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Научите ребенка управлять собой и вверенной ему самостоятельностью</a:t>
            </a:r>
            <a:r>
              <a:rPr b="1" lang="ru-RU" sz="1800" spc="-1" strike="noStrike">
                <a:solidFill>
                  <a:srgbClr val="25406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933c"/>
                </a:solidFill>
                <a:latin typeface="Arial"/>
              </a:rPr>
              <a:t>Способствуйте как можно большему разнообразию опыта ребен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serv_parents"/>
          <p:cNvPicPr/>
          <p:nvPr/>
        </p:nvPicPr>
        <p:blipFill>
          <a:blip r:embed="rId1"/>
          <a:stretch/>
        </p:blipFill>
        <p:spPr>
          <a:xfrm>
            <a:off x="2928960" y="4143240"/>
            <a:ext cx="3146400" cy="2401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85920" y="214200"/>
            <a:ext cx="702288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Как предотвратить компьютерную зависимость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357200"/>
            <a:ext cx="5365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374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92d050"/>
                </a:solidFill>
                <a:latin typeface="Arial"/>
              </a:rPr>
              <a:t>Ограничивайте время компьютерных забав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Arial"/>
              </a:rPr>
              <a:t>Постарайтесь оградить ребенка от 3 до 5 лет от компьютерных игр, так как это наиболее ответственный период развития психики ребенка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92d050"/>
                </a:solidFill>
                <a:latin typeface="Arial"/>
              </a:rPr>
              <a:t>Играть в компьютер перед сном запрещается всем детям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Arial"/>
              </a:rPr>
              <a:t>Прививайте культуру психической саморегуляции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92d050"/>
                </a:solidFill>
                <a:latin typeface="Arial"/>
              </a:rPr>
              <a:t>Сами отберите и предложите своему малышу добрые игры. Устанавливайте с ним доверительные отношения, чтобы он и взрослея советовался, во что играть на компьютере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Arial"/>
              </a:rPr>
              <a:t>Игры, основанные на эмоционально положительных образах, способствуют творческому развитию и раскрытию психических возможностей ребенка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92d050"/>
                </a:solidFill>
                <a:latin typeface="Arial"/>
              </a:rPr>
              <a:t>Ни в коем случае не позволяйте ребенку развлекаться в компьютерном клубе ночью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Arial"/>
              </a:rPr>
              <a:t>Следите за тем, чтобы увлечение компьютером не подменяло живое общение ребенка со сверстниками</a:t>
            </a:r>
            <a:r>
              <a:rPr b="0" lang="ru-RU" sz="1500" spc="-1" strike="noStrike">
                <a:solidFill>
                  <a:srgbClr val="92d050"/>
                </a:solidFill>
                <a:latin typeface="Arial"/>
              </a:rPr>
              <a:t>.</a:t>
            </a:r>
            <a:br>
              <a:rPr sz="1500"/>
            </a:br>
            <a:r>
              <a:rPr b="0" lang="ru-RU" sz="15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004_big"/>
          <p:cNvPicPr/>
          <p:nvPr/>
        </p:nvPicPr>
        <p:blipFill>
          <a:blip r:embed="rId1"/>
          <a:stretch/>
        </p:blipFill>
        <p:spPr>
          <a:xfrm>
            <a:off x="5643720" y="3643200"/>
            <a:ext cx="3342960" cy="2737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1 Título"/>
          <p:cNvGrpSpPr/>
          <p:nvPr/>
        </p:nvGrpSpPr>
        <p:grpSpPr>
          <a:xfrm>
            <a:off x="-96840" y="-49320"/>
            <a:ext cx="9337680" cy="4145040"/>
            <a:chOff x="-96840" y="-49320"/>
            <a:chExt cx="9337680" cy="4145040"/>
          </a:xfrm>
        </p:grpSpPr>
        <p:pic>
          <p:nvPicPr>
            <p:cNvPr id="61" name="1 Título" descr=""/>
            <p:cNvPicPr/>
            <p:nvPr/>
          </p:nvPicPr>
          <p:blipFill>
            <a:blip r:embed="rId1"/>
            <a:stretch/>
          </p:blipFill>
          <p:spPr>
            <a:xfrm>
              <a:off x="-96840" y="-49320"/>
              <a:ext cx="9337680" cy="414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142920" y="189000"/>
              <a:ext cx="8858160" cy="36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0" spc="-1" strike="noStrike">
                  <a:solidFill>
                    <a:srgbClr val="c00000"/>
                  </a:solidFill>
                  <a:latin typeface="Calibri"/>
                </a:rPr>
                <a:t>Влияние Интернета на детей.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785520" y="3143160"/>
            <a:ext cx="7459560" cy="9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c000"/>
                </a:solidFill>
                <a:latin typeface="Calibri"/>
              </a:rPr>
              <a:t>Интернет-зависимость.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78b4"/>
                </a:solidFill>
                <a:latin typeface="Calibri"/>
              </a:rPr>
              <a:t>                                          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" descr="b85d3476c15071786584b174295dbeb9"/>
          <p:cNvPicPr/>
          <p:nvPr/>
        </p:nvPicPr>
        <p:blipFill>
          <a:blip r:embed="rId2"/>
          <a:stretch/>
        </p:blipFill>
        <p:spPr>
          <a:xfrm>
            <a:off x="5214960" y="4143240"/>
            <a:ext cx="3330720" cy="2482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7T16:52:29Z</dcterms:created>
  <dc:creator>Elizabeth</dc:creator>
  <dc:description/>
  <cp:keywords/>
  <dc:language>en-US</dc:language>
  <cp:lastModifiedBy>Павловский ПМПК</cp:lastModifiedBy>
  <dcterms:modified xsi:type="dcterms:W3CDTF">2023-12-07T10:48:46Z</dcterms:modified>
  <cp:revision>83</cp:revision>
  <dc:subject/>
  <dc:title>Влияние Интернета на детей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4987259991</vt:lpwstr>
  </property>
</Properties>
</file>